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B0D-4A0F-4692-9BE2-4D542D9C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735-4DB8-48DE-8830-ECD5A6CB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9C4-2242-4FD1-A499-8E918E15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ACA-4959-444E-8D6E-F5474C47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F97-C8EA-48E4-951B-8E50623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29E-66CB-4B7B-908E-75BCFB36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DA7-B37B-48C0-A86E-EE4A7FE1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B28-CB48-46A0-85A4-E261B5F0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D00-8324-4646-8BF2-5197D828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3CD-CFE7-475A-93D2-E3DDBE3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E16-02BB-409D-A834-9831A17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292-543E-48FB-8A74-93D04EC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A507-7ACC-431A-B903-CE9AC87919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eodis.net/display.asp?resourceIdentifier=2003103_12214297&amp;num_to_display=1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eodis.net/display.asp?resourceIdentifier=20021016_69196719&amp;num_to_display=10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73720"/>
            <a:ext cx="9144000" cy="1079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941800">
            <a:off x="4975200" y="4149360"/>
            <a:ext cx="4168800" cy="25383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1908000" y="746280"/>
            <a:ext cx="5400720" cy="40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ictoria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calit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384880"/>
            <a:ext cx="424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sson 4</a:t>
            </a:r>
            <a:br>
              <a:rPr sz="2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ctorians Quiz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amp; The Great Railway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2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892080"/>
            <a:ext cx="38322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89000"/>
            <a:ext cx="35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ictorians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-813960" y="2977560"/>
            <a:ext cx="416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ahoma"/>
              </a:rPr>
              <a:t>Bon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95520" y="1743120"/>
            <a:ext cx="64436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average, a family today has 2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average, how many children did a Victorian family have in 186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5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65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1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92080"/>
            <a:ext cx="514368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89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Railways - 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366920"/>
            <a:ext cx="8218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were the railways so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travel more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lped transport good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lped transport peopl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1772"/>
          <a:stretch/>
        </p:blipFill>
        <p:spPr>
          <a:xfrm>
            <a:off x="3456000" y="3510000"/>
            <a:ext cx="4986360" cy="2935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636" r="0" b="0"/>
          <a:stretch/>
        </p:blipFill>
        <p:spPr>
          <a:xfrm>
            <a:off x="795240" y="3500280"/>
            <a:ext cx="218124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8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8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92080"/>
            <a:ext cx="45864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avelling By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0520" y="1387440"/>
            <a:ext cx="47307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omfortable jour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very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change to towns and neighbou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78400" y="3452760"/>
            <a:ext cx="343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43480" y="441360"/>
            <a:ext cx="3273480" cy="507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7120" y="3732120"/>
            <a:ext cx="3973680" cy="261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8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8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8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92080"/>
            <a:ext cx="353232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n and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78400" y="3452760"/>
            <a:ext cx="343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Your selected Image - Click to Return to Full Detail">
            <a:hlinkClick r:id="rId1"/>
          </p:cNvPr>
          <p:cNvPicPr/>
          <p:nvPr/>
        </p:nvPicPr>
        <p:blipFill>
          <a:blip r:embed="rId2"/>
          <a:srcRect l="0" t="12658" r="0" b="10839"/>
          <a:stretch/>
        </p:blipFill>
        <p:spPr>
          <a:xfrm>
            <a:off x="307800" y="3046320"/>
            <a:ext cx="4096080" cy="227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Your selected Image - Click to Return to Full Detai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120" y="1096920"/>
            <a:ext cx="4102200" cy="197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07880" y="5427720"/>
            <a:ext cx="38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Middleton Railway in 1829 and Leeds City Station in 19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29040" y="4878360"/>
            <a:ext cx="38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eds City Station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861080" y="1824120"/>
            <a:ext cx="382896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5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45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92080"/>
            <a:ext cx="257328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89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U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1832040"/>
            <a:ext cx="7200720" cy="30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300"/>
                            </p:stCondLst>
                            <p:childTnLst>
                              <p:par>
                                <p:cTn id="29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892080"/>
            <a:ext cx="38322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89000"/>
            <a:ext cx="35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ictorians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360" y="152712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ahoma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95520" y="1743120"/>
            <a:ext cx="611028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which year did Queen Victoria become Queen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837, 1847 or 185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5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15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92080"/>
            <a:ext cx="38322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89000"/>
            <a:ext cx="35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ictorians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9360" y="152712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ahoma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95520" y="1743120"/>
            <a:ext cx="61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ame one thing that we can find out about people from the cen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5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5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5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92080"/>
            <a:ext cx="38322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89000"/>
            <a:ext cx="35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ictorians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9360" y="152712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ahoma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95520" y="1743120"/>
            <a:ext cx="611028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ndustry was Leeds famous for in Victorian times…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ricultu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uting 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5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1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892080"/>
            <a:ext cx="38322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89000"/>
            <a:ext cx="35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ictorians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9360" y="152712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ahoma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95520" y="1743120"/>
            <a:ext cx="611028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ich of these was not invented in the Victorian era…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lephon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crowave 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cord Pla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5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6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92080"/>
            <a:ext cx="38322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89000"/>
            <a:ext cx="35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ictorians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9360" y="152712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ahoma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95520" y="1743120"/>
            <a:ext cx="611028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George Stephenson famous for being the first person to build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irst electric l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eds’ first newsagents 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irst public rail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5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5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1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892080"/>
            <a:ext cx="38322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89000"/>
            <a:ext cx="35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ictorians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9360" y="152712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ahoma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95520" y="1743120"/>
            <a:ext cx="611028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ich of these would you find in a Victorian classroom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teboa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late and Chal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oden Bench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astic Ch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5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892080"/>
            <a:ext cx="38322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89000"/>
            <a:ext cx="35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ictorians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9360" y="152712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ahoma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95520" y="1743120"/>
            <a:ext cx="64436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ich of these is true about trains in Victorian tim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had no brak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had toilets onboard They had central hea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5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65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5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92080"/>
            <a:ext cx="38322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89000"/>
            <a:ext cx="35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ictorians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9360" y="152712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ahoma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95520" y="1743120"/>
            <a:ext cx="644364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frequently do we carry out a census surv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ery yea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ery five years 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ery ten yea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5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6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15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8:17:29Z</dcterms:created>
  <dc:creator>Rob Halon</dc:creator>
  <dc:description/>
  <dc:language>en-US</dc:language>
  <cp:lastModifiedBy>Information Systems Services</cp:lastModifiedBy>
  <dcterms:modified xsi:type="dcterms:W3CDTF">2004-04-29T13:49:55Z</dcterms:modified>
  <cp:revision>8</cp:revision>
  <dc:subject/>
  <dc:title>Slide 1</dc:title>
</cp:coreProperties>
</file>